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3295800" y="500040"/>
            <a:ext cx="333504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7F3-5214-4E57-BE1A-C65C597D1E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95800" y="500040"/>
            <a:ext cx="3335040" cy="2502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920E-8298-4151-A64D-BD8361E305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285F-2F51-4887-82F8-112F596394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DBF8-9241-45CF-886C-5FB80F0207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838-4E96-4AD0-9250-2885B8920B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53E0-70DC-40DF-91E0-A986E63C8B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about why disseminate and have media coverage in the first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ual 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more school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95800" y="500040"/>
            <a:ext cx="3335040" cy="2502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New project</a:t>
            </a:r>
            <a:r>
              <a:rPr b="0" lang="en-US" sz="1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applicants</a:t>
            </a:r>
            <a:r>
              <a:rPr b="1" lang="en-US" sz="1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n check on existing material and avoid re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Existing Applicants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put of data helps reflect &amp; self-evaluate even in relation with other European re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Teachers</a:t>
            </a:r>
            <a:r>
              <a:rPr b="1" lang="en-US" sz="1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n gain direct access to materials developed within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Decision makers</a:t>
            </a:r>
            <a:r>
              <a:rPr b="1" lang="en-US" sz="1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n trace progress made by schools &amp; adult education organis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95800" y="500040"/>
            <a:ext cx="3335040" cy="2502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newsletter is the missionary arm of the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040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69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76673" b="0"/>
          <a:stretch/>
        </p:blipFill>
        <p:spPr>
          <a:xfrm>
            <a:off x="0" y="3368520"/>
            <a:ext cx="2133720" cy="34880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276720" y="6021360"/>
            <a:ext cx="1079280" cy="6732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908000" y="6237360"/>
            <a:ext cx="115128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76673" b="0"/>
          <a:stretch/>
        </p:blipFill>
        <p:spPr>
          <a:xfrm>
            <a:off x="0" y="3368520"/>
            <a:ext cx="2133720" cy="348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omenius.assistants@britishcouncil.or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lobalgateway.org/isa" TargetMode="External"/><Relationship Id="rId2" Type="http://schemas.openxmlformats.org/officeDocument/2006/relationships/hyperlink" Target="mailto:isaschemeenquiries@britishcouncil.org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twinning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comenius@britishcouncil.org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ff"/>
                </a:solidFill>
                <a:uFillTx/>
                <a:latin typeface="Arial"/>
              </a:rPr>
              <a:t>Lifelong Learning Programme</a:t>
            </a:r>
            <a:endParaRPr b="1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949" t="0" r="0" b="0"/>
          <a:stretch/>
        </p:blipFill>
        <p:spPr>
          <a:xfrm>
            <a:off x="1692360" y="1557360"/>
            <a:ext cx="590400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243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Management of lump sum funding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trip abroad to an approved partner or to an event or meeting relevant to the project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o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  Staff or representatives of the participating organisation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Staff or School education staff in participating regions who are not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working in one of the participating organisation or schools – if linked to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project activities and with prior written agreement from NA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Persons accompanying persons with special nee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areful and timely planning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on how to achieve the minimum number of mobilities applied for is crucia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e.g. who will travel; when; estimated travel and accommodation cost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icipants MUST retain copies of travel tickets and or boarding p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icipants MUST ensure that Certificates of attendance are issued to them by host institution – we can provide a temp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ravel tickets/boarding passes along with Certificates of attendance act as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evidence of trav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d might be asked for if you are selected for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k / on the spot check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352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y 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pare funding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remaining after mobilities have bee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udgeted for can be used to cover any other project related cos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Communication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Consum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oftware and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upply cover for teachers attending mee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Travel costs for associated mee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use of spare funding does not need to be declared as long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 the minimum number of mobilities is achiev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icipating institutions should also ensure they comply with the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quirements laid down within their institution, or by their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ent/governing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ody for the accounting of partnership expendi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Management of lump sum funding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anagement of additional cost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contracting – up to 30% of overall project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quipment – at depreciated rate and limited to 10% of overall project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ther costs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wn contribution – if grant claim is over €25,000 then must co-finance up to 25% of non-mobilit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sible to transfer between these budget headings (10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anagement of additional costs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125360"/>
            <a:ext cx="81532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ligible expenditure mus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e incurred by the partners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elate to activities involving countries that are eligible to participate in the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ust be connected with the project (i.e. listed in activity pla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ust be identifiable, verifiable and necessary to achieve the aims of the projec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e reasonable and justified – in accordance with sounds financial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e actually incurred by the partnership and be recorded in their accou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-eligible expenditu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aff costs and indirect costs (overhead costs/internet/general office suppli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sts of opening bank accounts, exchange losses, VAT (unless the applicant is unable to recover it), bank transfer cos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Reporting Process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Project reporting documents will be published on our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website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PROGRESS report due 30 June 2010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(Mid point of the project life time; used to determine how partnerships are going and arrange support if needed)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FINAL REPORT due 30 September 2011 </a:t>
            </a: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(End of contractual period; used to determine final grant awar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s must be in English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Final detailed statement of the eligible costs actually incurr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The qualitative and quantitative infor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 full summary statement of the actual receipts and expenditure of the a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s must be completed to an acceptable standard; they will be sent back to you if the quality is po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You will receive a full 20% second instalment if: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ll activities listed have been satisfactorily completed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inimum number of mobilities carried out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Sufficient proof of all expenditure provid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 reduction of grant will occur when: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ed activities, mobilities and outcomes do NOT correspond to those presented in the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pplication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form. The final grant will be zero and the grant holder will be required to repay the first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instalment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The required minimum number of eligible mobilities have NOT been carried out – the grant will be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duced according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ed costs do not fulfil the eligibility criteria. NA will ignore ineligible cos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ed costs are lower than expected. NA will base its final grant amount on actual expenditure.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Monitoring and Evaluation – Checks and Audit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8153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k Checks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submission by you to the British Council of evidence of the mobilities that you have undertaken and the expenditure you have incurr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al report stage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n-the-Spot Checks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rried out ANY time during the life of your partnershi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ill involve a visit to your institu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purpose of the visit will be to check that mobilities have taken place and current expenditure is eligible and consistent with your work pla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ther opportunities</a:t>
            </a:r>
            <a:endParaRPr b="1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his session will provide you with information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ther opportunities under Comenius: IST; Comenius Assistants; Comenius School Partnership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SA and its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wi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Activ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ructured Training Courses (language or non-langu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Job-shadowing an European colleag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ropean conference or semin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Who’s 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eac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chool Sta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ducational Advisors (LE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ducational Exp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rai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0"/>
            <a:ext cx="8229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omenius In Service Train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multilateral school partnership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14212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olve at least 3 schools from 3 different coun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e collaborative curriculum- or issue-based, i.e. are pupil- or teacher-based, or a comb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ver any theme such as citizenship, environment, stories, crafts or intercultural edu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us on learning processes but often result in end products and outcomes, teaching material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ry to include MFL and CLIL where 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rt staff travel for e.g. project meetings, teacher exchanges, etc. but can also include pup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bilateral school partnerships with a language focu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m to improve pupils’ motivation and capacity to communicate in foreig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clude a reciprocal 10-day exchange for face-to-face projec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olve at least 10 students aged 12 and upw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und escorts on the ratio of 1 per 5 pup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olve collaborative cross-curricular work before, during and after the exchanges resulting in a jointly produced end produ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rt 20-40 hours’ language tuition if target language is not taught in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5328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OMENIUS REGIO PARTNERSHIPS</a:t>
            </a:r>
            <a:br>
              <a:rPr sz="2400"/>
            </a:b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Overall objectives: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understand your contractual obligations to the British Council vis-à-vis your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tter understand the financial aspects to project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arn about eTwinning – IT communication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share practical experience, with other coordinators, of how to manage your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 made aware of practical ways to disseminate and exploit the results of your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 made aware of other Comenius activities, and other British Council schools programmes that can enhance your partnersh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  <a:ea typeface="Arial Unicode MS"/>
              </a:rPr>
              <a:t>Comenius Assistants</a:t>
            </a:r>
            <a:endParaRPr b="1" lang="en-US" sz="3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541440" y="836280"/>
            <a:ext cx="9361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en to intending and trainee teachers from across Europe from 30 European coun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ms to work across the curriculum to provide a FREE cultural resource to the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3-45 weeks/12-16 contact hours per wee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t secondary level, language </a:t>
            </a: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must no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 taught on curricul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p to 3 schools can share (cluster applic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ds value and complements existing Comenius projects within the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act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menius.assistants@britishcouncil.org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60560" y="4427640"/>
          <a:ext cx="2357280" cy="517320"/>
        </p:xfrm>
        <a:graphic>
          <a:graphicData uri="http://schemas.openxmlformats.org/drawingml/2006/table">
            <a:tbl>
              <a:tblPr/>
              <a:tblGrid>
                <a:gridCol w="2046240"/>
                <a:gridCol w="31104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906800" y="4437000"/>
          <a:ext cx="301680" cy="365040"/>
        </p:xfrm>
        <a:graphic>
          <a:graphicData uri="http://schemas.openxmlformats.org/drawingml/2006/table">
            <a:tbl>
              <a:tblPr/>
              <a:tblGrid>
                <a:gridCol w="30168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16080" y="4548240"/>
            <a:ext cx="152640" cy="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016080" y="1913040"/>
            <a:ext cx="9720" cy="6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062680" y="4473720"/>
            <a:ext cx="93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British Council Sans"/>
              </a:rPr>
              <a:t>International School Award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368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ccreditation for successful practice in curriculum-based international work in sch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ver 1200 UK schools accredited since 19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rget: all schools involved in international activity by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unded by DCS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51280" y="1125360"/>
          <a:ext cx="5041800" cy="4040280"/>
        </p:xfrm>
        <a:graphic>
          <a:graphicData uri="http://schemas.openxmlformats.org/drawingml/2006/table">
            <a:tbl>
              <a:tblPr/>
              <a:tblGrid>
                <a:gridCol w="2449440"/>
                <a:gridCol w="259236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Founda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rodu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rnational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or schools beginning international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o dead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Intermedia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velop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rnational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or schools that are beginning to work with an international partner 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o dead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 </a:t>
                      </a:r>
                      <a:r>
                        <a:rPr b="1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Full Aw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or schools that have developed an integrated international eth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adline for applications: Dec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400" spc="-1" strike="noStrike">
                <a:solidFill>
                  <a:srgbClr val="3399ff"/>
                </a:solidFill>
                <a:latin typeface="British Council Sans"/>
              </a:rPr>
              <a:t>International School Award</a:t>
            </a:r>
            <a:endParaRPr b="1" lang="en-US" sz="3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or more informatio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globalgateway.org/isa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isaschemeenquiries@britishcouncil.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020 7389 44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486160" cy="1670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Using eTwinning to enhance your Comenius project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251316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at is eTwinning?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rand of the European Commission’s Lifelong Learning Programme that allows European schools to engage in collaborative projects using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internet and 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winning began in 2005 and became an sub-programme of Comenius in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oes not offer funding to schools, b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vides tools and suppor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to make project work 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2 European Countries; over 63,000 European teachers; over 6,500 UK teac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ntrepiece is the eTwinning Portal 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twinning.net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ww.eTwinning.net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ublic homepag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 Information and inspiration for all; you register and log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sktop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 Your personal profile; partner finding tool; register your project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winspac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 Accessible when you register a project; virtual classroom with communication tools and a place to share your work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ere can eTwinning fit into your project?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0880" indent="-190440">
              <a:lnSpc>
                <a:spcPct val="20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tion too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20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nning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20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 a place to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ore and shar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your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20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ool to disseminat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your work: within your institution; within your partnership; to the local community and wi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PARTNERSHIPS</a:t>
            </a:r>
            <a:br>
              <a:rPr sz="2800"/>
            </a:b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Using the media and dissemination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483920"/>
            <a:ext cx="83595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The aim of this session is to expla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How to use a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press releas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to generate good quality news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The purpose of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European Shared Tr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How to get the most out of the British Council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website and 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How to access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resource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that support project disse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British Council Sans"/>
              </a:rPr>
              <a:t>Generating media coverage for your partnership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y has a template press release been developed for Regio Partnership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ocal papers are under time pressure and need to fill their p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ss releases are designed to be easy to re-use by busy journali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press release gives you control of the story of your proj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tish Council and Comenius standard messaging is already inclu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British Council employ a press officer responsible for schools. Contact them o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menius@britishcouncil.org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651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European Shared Treasure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database to capture project activities; i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mprove visibility &amp; access projec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 massive platform for disseminating your project outco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 source of inspi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 contractual responsibility for all 2009 Partnersh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4292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REGIO PARTNERSHIP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ractual issue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his session will co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basic cycle of your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financial rules of your partnership / Management of your lump sum and additional fu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reporting process and other oblig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your partnership will be monitored (Qualitative and Quantit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British Council Sans"/>
              </a:rPr>
              <a:t>The British Council and Project Dissemination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Comenius website had 66,000 visitors last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website promotes Comenius to new audiences as well a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rting ongoing Comenius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enius eNews is our newsletter. It goes out to all current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antholders, and many representatives from local authorities, a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ll as anyone who chooses to subscri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se studies are a powerful tool for illustrating the benefits of th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use case studies on our website, at regional and national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vents, and in the p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British Council Sans"/>
              </a:rPr>
              <a:t>The British Council and Project Dissemination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197000"/>
            <a:ext cx="8569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sues are we especially interested in for 2010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ploy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ty Cohes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nguag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rticipation of underrepresented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British Council Sans"/>
              </a:rPr>
              <a:t>More tips on Project Dissemination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derstand who your audiences are, and what they will be interested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rents and the local community are an important aud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seminate effectively within your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aS Quality and Sustainability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ttp://www.programkontoret.se/sv/QaS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ropean Commission web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ttp://ec.europa.eu/dgs/education_culture/valorisation/index_en.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PARTNERSHIP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uestions and Answ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at is the life cycle of a partnership?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3040" y="747000"/>
            <a:ext cx="8913240" cy="4708800"/>
            <a:chOff x="113040" y="747000"/>
            <a:chExt cx="8913240" cy="4708800"/>
          </a:xfrm>
        </p:grpSpPr>
        <p:sp>
          <p:nvSpPr>
            <p:cNvPr id="94" name="_s741381"/>
            <p:cNvSpPr/>
            <p:nvPr/>
          </p:nvSpPr>
          <p:spPr>
            <a:xfrm flipH="1" flipV="1">
              <a:off x="2991960" y="2268000"/>
              <a:ext cx="791640" cy="418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741382"/>
            <p:cNvSpPr/>
            <p:nvPr/>
          </p:nvSpPr>
          <p:spPr>
            <a:xfrm>
              <a:off x="1091880" y="1264320"/>
              <a:ext cx="2229120" cy="1177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ubmiss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Final 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741383"/>
            <p:cNvSpPr/>
            <p:nvPr/>
          </p:nvSpPr>
          <p:spPr>
            <a:xfrm flipH="1">
              <a:off x="2338560" y="3100320"/>
              <a:ext cx="11203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_s741384"/>
            <p:cNvSpPr/>
            <p:nvPr/>
          </p:nvSpPr>
          <p:spPr>
            <a:xfrm>
              <a:off x="113040" y="2512440"/>
              <a:ext cx="2229120" cy="1177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7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ubmiss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rogr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741385"/>
            <p:cNvSpPr/>
            <p:nvPr/>
          </p:nvSpPr>
          <p:spPr>
            <a:xfrm flipH="1">
              <a:off x="2991960" y="3514320"/>
              <a:ext cx="791640" cy="418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741386"/>
            <p:cNvSpPr/>
            <p:nvPr/>
          </p:nvSpPr>
          <p:spPr>
            <a:xfrm>
              <a:off x="1091880" y="3760920"/>
              <a:ext cx="2229120" cy="1177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6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Ongoing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nitor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of 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741387"/>
            <p:cNvSpPr/>
            <p:nvPr/>
          </p:nvSpPr>
          <p:spPr>
            <a:xfrm>
              <a:off x="4567680" y="3686040"/>
              <a:ext cx="0" cy="5918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741388"/>
            <p:cNvSpPr/>
            <p:nvPr/>
          </p:nvSpPr>
          <p:spPr>
            <a:xfrm>
              <a:off x="3454560" y="4278240"/>
              <a:ext cx="2229120" cy="1177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gio Partne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741389"/>
            <p:cNvSpPr/>
            <p:nvPr/>
          </p:nvSpPr>
          <p:spPr>
            <a:xfrm>
              <a:off x="5351400" y="3514320"/>
              <a:ext cx="791640" cy="418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741390"/>
            <p:cNvSpPr/>
            <p:nvPr/>
          </p:nvSpPr>
          <p:spPr>
            <a:xfrm>
              <a:off x="5818320" y="3760920"/>
              <a:ext cx="2229120" cy="11775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Grant Agre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a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741391"/>
            <p:cNvSpPr/>
            <p:nvPr/>
          </p:nvSpPr>
          <p:spPr>
            <a:xfrm>
              <a:off x="5676480" y="3100320"/>
              <a:ext cx="11203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741392"/>
            <p:cNvSpPr/>
            <p:nvPr/>
          </p:nvSpPr>
          <p:spPr>
            <a:xfrm>
              <a:off x="6797160" y="2512440"/>
              <a:ext cx="2229120" cy="11775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ele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741393"/>
            <p:cNvSpPr/>
            <p:nvPr/>
          </p:nvSpPr>
          <p:spPr>
            <a:xfrm flipV="1">
              <a:off x="5351400" y="2268000"/>
              <a:ext cx="791640" cy="418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741394"/>
            <p:cNvSpPr/>
            <p:nvPr/>
          </p:nvSpPr>
          <p:spPr>
            <a:xfrm>
              <a:off x="5818320" y="1264320"/>
              <a:ext cx="2229120" cy="11775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Eligibility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Quality Che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741395"/>
            <p:cNvSpPr/>
            <p:nvPr/>
          </p:nvSpPr>
          <p:spPr>
            <a:xfrm flipV="1">
              <a:off x="4567680" y="1922400"/>
              <a:ext cx="0" cy="5918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741396"/>
            <p:cNvSpPr/>
            <p:nvPr/>
          </p:nvSpPr>
          <p:spPr>
            <a:xfrm>
              <a:off x="3454560" y="747000"/>
              <a:ext cx="2229120" cy="11775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ub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741397"/>
            <p:cNvSpPr/>
            <p:nvPr/>
          </p:nvSpPr>
          <p:spPr>
            <a:xfrm>
              <a:off x="3454560" y="2514600"/>
              <a:ext cx="2229120" cy="1177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Lif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ntractual requirement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ant is paid to the Coordinator – who then has responsibility to manage this gr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ordinator will manage the partnership – may decide to draw up contracts between internal partn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ar in mind holidays/time zones/school days and ex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Have a strategy for managing conflicts or misunderstandings/how do you deal with partners who do not respond to emails/do not fulfil project promis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ce Maje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nflict of interes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Ownership of results - Intellectual property righ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spen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ward of contra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rmination of contra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anaging a Comenius partnership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se the activity plan as a working project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ear in mind holidays/time zones/school days and ex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ve a strategy for managing conflicts or misunderstandings/how do you deal with partners who do not respond to emails/do not fulfil project promi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sure full integration and involvement of all partners – do not exclu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sure strong collaboration and communication within the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ree on the method of commun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Risks and consideration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Withdrawal of a par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nclear division of tas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ack of time, lack of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ultural differ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anguage and communication probl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ifferences in academic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olitical chang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light cancel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hild protection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aff cha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Financial management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rant Agreement sets out the financial rules and </a:t>
            </a: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mus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be carefully 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nsure you read accompanying guidance carefully –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nnex IV: Rules for calculation of the final grant amou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rants are paid in 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Euros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, in two instalmen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First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80%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payment paid within 45 days of receipt of signed Grant Agre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Final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payment paid within 45 days of receipt and approval of the Final Re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Management of lump sum funding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9840" y="764640"/>
            <a:ext cx="781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nt payments relate to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mplete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mobility activ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 4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4 mobilities are successfully carried out over the 2 year period)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€4,00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 8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8 mobilities are successfully carried out over the 2 year period)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€8,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 12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2 mobilities are successfully carried out over the 2 year period)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€10,00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 24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4 mobilities are successfully carried out over the 2 year period)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€20,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8:32:24Z</dcterms:created>
  <dc:creator>JOdisseos-Nilsson</dc:creator>
  <dc:description/>
  <dc:language>en-US</dc:language>
  <cp:lastModifiedBy>The British Council</cp:lastModifiedBy>
  <cp:lastPrinted>2004-01-23T16:13:26Z</cp:lastPrinted>
  <dcterms:modified xsi:type="dcterms:W3CDTF">2009-10-01T12:54:12Z</dcterms:modified>
  <cp:revision>114</cp:revision>
  <dc:subject/>
  <dc:title>COMENIUS MONITORING, EVALUATION AND DISSEMINATION MEETING</dc:title>
</cp:coreProperties>
</file>